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8F6C-0F02-4608-8B19-B2E1343A6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298D-E988-4CD8-87B2-D419D030E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743F-D210-4372-B632-C5D691A62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B7B3-E973-4744-A90D-E1C11C1C7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B4AE-2C23-41DD-B6D4-0B5841A3F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D7D8-F88D-4A4A-B6CF-66C42EA59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7E9E-5354-4240-879C-9C0F4F24C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1A64-48E4-4A2C-85F0-E344F79EE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F5D9-4062-497B-AB2A-A18DEFAAB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77A5-587A-455C-B681-9D35323B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532B-CEB1-44B9-BF31-3022F5AC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472F-DABE-4E91-BB63-0B8237FF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DA4B0-4BED-46FC-9662-A133EB662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98400" y="1096920"/>
            <a:ext cx="4740480" cy="68580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4716360" y="3479760"/>
            <a:ext cx="4221000" cy="669960"/>
            <a:chOff x="4716360" y="3479760"/>
            <a:chExt cx="4221000" cy="669960"/>
          </a:xfrm>
        </p:grpSpPr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4716360" y="3479760"/>
              <a:ext cx="4221000" cy="669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" name=""/>
            <p:cNvGrpSpPr/>
            <p:nvPr/>
          </p:nvGrpSpPr>
          <p:grpSpPr>
            <a:xfrm>
              <a:off x="5692680" y="3659040"/>
              <a:ext cx="3240000" cy="298440"/>
              <a:chOff x="5692680" y="3659040"/>
              <a:chExt cx="3240000" cy="298440"/>
            </a:xfrm>
          </p:grpSpPr>
          <p:sp>
            <p:nvSpPr>
              <p:cNvPr id="45" name=""/>
              <p:cNvSpPr/>
              <p:nvPr/>
            </p:nvSpPr>
            <p:spPr>
              <a:xfrm>
                <a:off x="5692680" y="3659040"/>
                <a:ext cx="1641600" cy="298440"/>
              </a:xfrm>
              <a:prstGeom prst="rect">
                <a:avLst/>
              </a:prstGeom>
              <a:noFill/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350120" y="3659040"/>
                <a:ext cx="1582560" cy="2984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" name=""/>
          <p:cNvSpPr/>
          <p:nvPr/>
        </p:nvSpPr>
        <p:spPr>
          <a:xfrm>
            <a:off x="1892160" y="1330200"/>
            <a:ext cx="1656000" cy="29844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64000" y="1330200"/>
            <a:ext cx="1871640" cy="298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08000" y="3462480"/>
            <a:ext cx="4464000" cy="2072880"/>
            <a:chOff x="108000" y="3462480"/>
            <a:chExt cx="4464000" cy="2072880"/>
          </a:xfrm>
        </p:grpSpPr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900000" y="4369680"/>
              <a:ext cx="1646280" cy="105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755640" y="4303800"/>
              <a:ext cx="2016000" cy="123156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4"/>
            <a:stretch/>
          </p:blipFill>
          <p:spPr>
            <a:xfrm>
              <a:off x="108000" y="3462480"/>
              <a:ext cx="4419360" cy="57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244520" y="3650760"/>
              <a:ext cx="1655640" cy="29844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916360" y="3650760"/>
              <a:ext cx="1655640" cy="298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1116000" y="3850920"/>
              <a:ext cx="287280" cy="58284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1042920" y="166680"/>
            <a:ext cx="412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:\E_current\reminderfox_gW\www\info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40360" y="1341360"/>
            <a:ext cx="130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6249960"/>
            <a:ext cx="178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ICSi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2000" y="1989000"/>
            <a:ext cx="130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5326200" y="4457880"/>
            <a:ext cx="1638000" cy="10490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181480" y="4325760"/>
            <a:ext cx="2016360" cy="123192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92720" y="6237360"/>
            <a:ext cx="178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ICSi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716040" y="1952640"/>
            <a:ext cx="4221000" cy="669960"/>
            <a:chOff x="716040" y="1952640"/>
            <a:chExt cx="4221000" cy="669960"/>
          </a:xfrm>
        </p:grpSpPr>
        <p:pic>
          <p:nvPicPr>
            <p:cNvPr id="64" name="" descr=""/>
            <p:cNvPicPr/>
            <p:nvPr/>
          </p:nvPicPr>
          <p:blipFill>
            <a:blip r:embed="rId6"/>
            <a:stretch/>
          </p:blipFill>
          <p:spPr>
            <a:xfrm>
              <a:off x="716040" y="1952640"/>
              <a:ext cx="4221000" cy="669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" name=""/>
            <p:cNvGrpSpPr/>
            <p:nvPr/>
          </p:nvGrpSpPr>
          <p:grpSpPr>
            <a:xfrm>
              <a:off x="1692360" y="2131920"/>
              <a:ext cx="3240000" cy="298440"/>
              <a:chOff x="1692360" y="2131920"/>
              <a:chExt cx="3240000" cy="298440"/>
            </a:xfrm>
          </p:grpSpPr>
          <p:sp>
            <p:nvSpPr>
              <p:cNvPr id="66" name=""/>
              <p:cNvSpPr/>
              <p:nvPr/>
            </p:nvSpPr>
            <p:spPr>
              <a:xfrm>
                <a:off x="1692360" y="2131920"/>
                <a:ext cx="1641600" cy="298440"/>
              </a:xfrm>
              <a:prstGeom prst="rect">
                <a:avLst/>
              </a:prstGeom>
              <a:noFill/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349800" y="2131920"/>
                <a:ext cx="1582560" cy="2984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"/>
          <p:cNvSpPr/>
          <p:nvPr/>
        </p:nvSpPr>
        <p:spPr>
          <a:xfrm flipH="1">
            <a:off x="5508360" y="3908520"/>
            <a:ext cx="393480" cy="5094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151080" y="1052640"/>
            <a:ext cx="3095640" cy="1968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348000" y="4689360"/>
            <a:ext cx="2670120" cy="1908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84360" y="5091120"/>
            <a:ext cx="1522440" cy="1650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395280" y="1601640"/>
            <a:ext cx="2090880" cy="1683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655560" y="3649680"/>
            <a:ext cx="3819600" cy="603360"/>
          </a:xfrm>
          <a:prstGeom prst="rect">
            <a:avLst/>
          </a:prstGeom>
          <a:ln w="0">
            <a:noFill/>
          </a:ln>
        </p:spPr>
      </p:pic>
      <p:grpSp>
        <p:nvGrpSpPr>
          <p:cNvPr id="74" name=""/>
          <p:cNvGrpSpPr/>
          <p:nvPr/>
        </p:nvGrpSpPr>
        <p:grpSpPr>
          <a:xfrm>
            <a:off x="1557360" y="3821040"/>
            <a:ext cx="2914200" cy="298440"/>
            <a:chOff x="1557360" y="3821040"/>
            <a:chExt cx="2914200" cy="298440"/>
          </a:xfrm>
        </p:grpSpPr>
        <p:sp>
          <p:nvSpPr>
            <p:cNvPr id="75" name=""/>
            <p:cNvSpPr/>
            <p:nvPr/>
          </p:nvSpPr>
          <p:spPr>
            <a:xfrm>
              <a:off x="1557360" y="3821040"/>
              <a:ext cx="1476720" cy="29844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48120" y="3821040"/>
              <a:ext cx="1423440" cy="298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 flipH="1">
            <a:off x="4163760" y="3994200"/>
            <a:ext cx="128520" cy="582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92480" y="4446720"/>
            <a:ext cx="3173400" cy="2203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19440" y="378468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978520" y="587232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81520" y="4770360"/>
            <a:ext cx="429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81880" y="6195960"/>
            <a:ext cx="438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042920" y="4057560"/>
            <a:ext cx="2138400" cy="1038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6480" y="5013360"/>
            <a:ext cx="22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Time_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388800" y="115920"/>
            <a:ext cx="3976920" cy="5745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413000" y="304920"/>
            <a:ext cx="1488960" cy="29844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052520" y="504720"/>
            <a:ext cx="168120" cy="763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21200" y="957240"/>
            <a:ext cx="3173400" cy="2203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48160" y="24444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03640" y="234936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08440" y="1330200"/>
            <a:ext cx="429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08800" y="2755800"/>
            <a:ext cx="438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16360" y="304920"/>
            <a:ext cx="1490400" cy="298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35160" y="496800"/>
            <a:ext cx="1887480" cy="1225800"/>
          </a:xfrm>
          <a:custGeom>
            <a:avLst/>
            <a:gdLst/>
            <a:ahLst/>
            <a:rect l="l" t="t" r="r" b="b"/>
            <a:pathLst>
              <a:path w="1189" h="772">
                <a:moveTo>
                  <a:pt x="0" y="772"/>
                </a:moveTo>
                <a:lnTo>
                  <a:pt x="1189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84400" y="1824120"/>
            <a:ext cx="22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Time_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179280" y="765000"/>
            <a:ext cx="2917800" cy="2592720"/>
            <a:chOff x="179280" y="765000"/>
            <a:chExt cx="2917800" cy="25927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179280" y="765000"/>
              <a:ext cx="2895840" cy="25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1541520" y="2774880"/>
              <a:ext cx="1555560" cy="582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392760" y="26028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24000" y="3789360"/>
            <a:ext cx="2779560" cy="2527200"/>
            <a:chOff x="324000" y="3789360"/>
            <a:chExt cx="2779560" cy="2527200"/>
          </a:xfrm>
        </p:grpSpPr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324000" y="3789360"/>
              <a:ext cx="2547720" cy="24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1547640" y="5734080"/>
              <a:ext cx="1555920" cy="5824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465840" y="638172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774960" y="631800"/>
            <a:ext cx="5261040" cy="2509920"/>
            <a:chOff x="3774960" y="631800"/>
            <a:chExt cx="5261040" cy="2509920"/>
          </a:xfrm>
        </p:grpSpPr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3846600" y="631800"/>
              <a:ext cx="5189400" cy="250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774960" y="1538640"/>
              <a:ext cx="2880000" cy="5184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4642200" y="115920"/>
            <a:ext cx="197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140360" y="4149720"/>
            <a:ext cx="4741200" cy="2544840"/>
            <a:chOff x="4140360" y="4149720"/>
            <a:chExt cx="4741200" cy="2544840"/>
          </a:xfrm>
        </p:grpSpPr>
        <p:pic>
          <p:nvPicPr>
            <p:cNvPr id="109" name="" descr=""/>
            <p:cNvPicPr/>
            <p:nvPr/>
          </p:nvPicPr>
          <p:blipFill>
            <a:blip r:embed="rId4"/>
            <a:stretch/>
          </p:blipFill>
          <p:spPr>
            <a:xfrm>
              <a:off x="4211280" y="4149720"/>
              <a:ext cx="4670280" cy="254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4140360" y="4992480"/>
              <a:ext cx="2879280" cy="5187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074920" y="3645000"/>
            <a:ext cx="206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-5400" y="112536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CriteriaCateg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348000" y="44280"/>
            <a:ext cx="5688000" cy="3600360"/>
            <a:chOff x="3348000" y="44280"/>
            <a:chExt cx="5688000" cy="360036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419280" y="50760"/>
              <a:ext cx="5540400" cy="35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8631000" y="44280"/>
              <a:ext cx="333360" cy="194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1701720"/>
              <a:ext cx="4464000" cy="1726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348000" y="1773000"/>
              <a:ext cx="1295280" cy="3603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6609600" y="479736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Criteria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50920" y="3860640"/>
            <a:ext cx="5925600" cy="2865600"/>
            <a:chOff x="250920" y="3860640"/>
            <a:chExt cx="5925600" cy="2865600"/>
          </a:xfrm>
        </p:grpSpPr>
        <p:pic>
          <p:nvPicPr>
            <p:cNvPr id="120" name="" descr=""/>
            <p:cNvPicPr/>
            <p:nvPr/>
          </p:nvPicPr>
          <p:blipFill>
            <a:blip r:embed="rId2"/>
            <a:stretch/>
          </p:blipFill>
          <p:spPr>
            <a:xfrm>
              <a:off x="250920" y="3860640"/>
              <a:ext cx="3925800" cy="286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3"/>
            <a:stretch/>
          </p:blipFill>
          <p:spPr>
            <a:xfrm>
              <a:off x="4498920" y="4797360"/>
              <a:ext cx="1677600" cy="10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2915640" y="522936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47280" y="522936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83040" y="4624560"/>
              <a:ext cx="4075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41840" y="5037120"/>
              <a:ext cx="115380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58920" y="5703840"/>
              <a:ext cx="115344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34240" y="105264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CriteriaCateg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16560" y="44280"/>
            <a:ext cx="4448160" cy="4029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356000" y="1728720"/>
            <a:ext cx="1152720" cy="36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35640" y="1628640"/>
            <a:ext cx="3600360" cy="180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50920" y="3951360"/>
            <a:ext cx="5796000" cy="2862360"/>
            <a:chOff x="250920" y="3951360"/>
            <a:chExt cx="5796000" cy="2862360"/>
          </a:xfrm>
        </p:grpSpPr>
        <p:pic>
          <p:nvPicPr>
            <p:cNvPr id="132" name="" descr=""/>
            <p:cNvPicPr/>
            <p:nvPr/>
          </p:nvPicPr>
          <p:blipFill>
            <a:blip r:embed="rId2"/>
            <a:stretch/>
          </p:blipFill>
          <p:spPr>
            <a:xfrm>
              <a:off x="4138560" y="4667400"/>
              <a:ext cx="1908360" cy="13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3"/>
            <a:stretch/>
          </p:blipFill>
          <p:spPr>
            <a:xfrm>
              <a:off x="250920" y="3951360"/>
              <a:ext cx="3752640" cy="28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2627280" y="530064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476360" y="530064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14920" y="4508640"/>
              <a:ext cx="3859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3800" y="5003640"/>
              <a:ext cx="115236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09600" y="587700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Criteria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0:57:52Z</dcterms:created>
  <dc:creator>\\_gW_</dc:creator>
  <dc:description/>
  <dc:language>en-US</dc:language>
  <cp:lastModifiedBy>\\_gW_</cp:lastModifiedBy>
  <dcterms:modified xsi:type="dcterms:W3CDTF">2010-12-01T23:24:20Z</dcterms:modified>
  <cp:revision>7</cp:revision>
  <dc:subject/>
  <dc:title>Folie 1</dc:title>
</cp:coreProperties>
</file>